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E6EB-0DD0-4576-888E-DD95B6B8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064D-A733-41FB-BD04-F94CE2DA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EC4EE-C702-4211-9D14-4D07E6FD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28421-C7BE-450D-A555-26F26D82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A8EF-562B-4227-B264-99F66D72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5F9E-A1BB-4F55-8B4B-25278321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A7F4-28F3-4D39-BF87-963214E2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496E-A8C8-4A91-AC0B-12F650E9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3A7D-58EA-4D14-B71B-BA99FE6B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6F68-B946-4126-B6DC-ECFB1C8A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6624-D3B9-4233-9502-DDC1EF45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0167-E455-4DA5-B59C-38A9A467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510F-BE06-4CAA-BB08-EA7B31B2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B117-254B-468D-9449-59637F13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771B-CD61-46CD-A4B5-274737F9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EECF-9E59-4611-B89F-6BE64B60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6E51-326D-412F-95C2-CE8BBB55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0B902-A207-48D3-BE07-A85DD711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C849-F371-4393-B149-19CA7707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331B-23ED-48C7-8783-65F9BDCE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F0350-6CAF-4C9C-A0FC-2A5F22D4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33CD-B8F6-4FFE-92AF-9B72435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2B39F-E1EF-41A6-88E9-5C0A22E9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D2ECD-E84A-4077-B50E-E4CB3FB6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2CE8-0BCF-4DFE-8F01-B883853DDA75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6D54-BEC6-4EFB-8F3D-D27344A7EC6D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252360" y="608040"/>
            <a:ext cx="957744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282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Пр.397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О, юноше, помни ти свой Създател, търси Го всякога кат' мил Приятел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Не казвай, че във есен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ще запееш тъжна песен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в младост е животът лесе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без водител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541440" y="605520"/>
            <a:ext cx="1008216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Но в младостта, о, юноше, е време да търсиш Бога - туй е леко бреме! Мисли, че Той направ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жертва ,тебе да избави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и на кръста обезслав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свято им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252360" y="89028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3. Помни, че може смърт да те постигне и твойта младост рано да загине! Приятели, роднин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ронят сълзи, нажалени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че тъй често в гроб студен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младост гин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252360" y="462240"/>
            <a:ext cx="957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200" spc="-1" strike="noStrike">
                <a:solidFill>
                  <a:srgbClr val="ffffff"/>
                </a:solidFill>
                <a:latin typeface="Garamond"/>
              </a:rPr>
              <a:t>4. Бъди разумен, път добър избирай и в млада възраст Бога не оставяй! Върви с оназ свеще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200" spc="-1" strike="noStrike">
                <a:solidFill>
                  <a:srgbClr val="ffffff"/>
                </a:solidFill>
                <a:latin typeface="Garamond"/>
              </a:rPr>
              <a:t>Божия армия избрана!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ffffff"/>
                </a:solidFill>
                <a:latin typeface="Garamond"/>
              </a:rPr>
              <a:t>С вяра и любов предана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ffffff"/>
                </a:solidFill>
                <a:latin typeface="Garamond"/>
              </a:rPr>
              <a:t>Бога следвай!</a:t>
            </a:r>
            <a:r>
              <a:rPr b="0" lang="bg-BG" sz="4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123</cp:lastModifiedBy>
  <dcterms:modified xsi:type="dcterms:W3CDTF">2005-10-22T15:53:15Z</dcterms:modified>
  <cp:revision>216</cp:revision>
  <dc:subject/>
  <dc:title>Slide 1</dc:title>
</cp:coreProperties>
</file>